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378-4B74-4AF2-BB32-BEF04E29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pbiologywiki.wikispaces.com/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ekp.com/essenti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’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564-9FBC-487E-856E-5803C551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590-C022-4773-BB03-2C4FC645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8E3-FF6E-48E5-B76F-E4478E50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0E2-D20A-4CC4-889D-1E106ED1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C2C-D7B6-4C40-884B-D115E27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802-846B-40D6-8719-2FE7184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FFC-544A-43CB-BECA-7483C27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278-C039-4E12-B5AD-B40AC5F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F98-E086-4295-A2AF-04DDB127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22C-0C62-4756-83C1-4A114EB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A68-2642-4FB8-B221-CB5715B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C22-9F64-4730-9B64-4EDD7CE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507-6CFA-4A72-BA98-539D9F07D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s &amp; Eudic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66880" y="1981080"/>
            <a:ext cx="56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to land required strategies to prevent water loss while allowing gas exchang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14320" y="1600200"/>
            <a:ext cx="7515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4-09-25T16:56:44Z</dcterms:modified>
  <cp:revision>28</cp:revision>
  <dc:subject/>
  <dc:title>PowerPoint Presentation</dc:title>
</cp:coreProperties>
</file>